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9CE-E2A5-4C89-BCF5-7F1EB288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542-E60B-4B11-AB40-B939E29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EE0-DBD2-4330-8330-D06DDA14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206-97C4-4AA1-857F-251B89B8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3CB-718F-4601-99D0-FB8AB2D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E38-5BFA-4A4A-84E3-21C275CD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A27-065D-4344-AC9B-84EF02A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6B1-6DF8-42C8-8BFB-BA935018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2A9-BC2E-49F6-8A7E-7ADC6E2E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E12-7CE1-4E2F-9066-21BE3FB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059-9CCF-4FDE-B03C-1E5B399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090-FB39-4437-BE55-6FA19F0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8DF-3F0F-45CB-9E7E-0B935F6B9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Food In The 197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ack Fin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llon Lou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nton Hack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urger-king-1976-ad"/>
          <p:cNvPicPr/>
          <p:nvPr/>
        </p:nvPicPr>
        <p:blipFill>
          <a:blip r:embed="rId2"/>
          <a:stretch/>
        </p:blipFill>
        <p:spPr>
          <a:xfrm>
            <a:off x="2041560" y="0"/>
            <a:ext cx="50608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bk.wav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452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Ben_and_Jerry%27s_free_cone_day_today_March_23rd_2010"/>
          <p:cNvPicPr/>
          <p:nvPr/>
        </p:nvPicPr>
        <p:blipFill>
          <a:blip r:embed="rId2"/>
          <a:stretch/>
        </p:blipFill>
        <p:spPr>
          <a:xfrm rot="1423800">
            <a:off x="4114440" y="1294920"/>
            <a:ext cx="4127400" cy="4361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n &amp; Jerry’s Homemade Ice Cr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b &amp; j.wav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ben-jerry-ice-cream-chocolate-chip-cookie-dough"/>
          <p:cNvPicPr/>
          <p:nvPr/>
        </p:nvPicPr>
        <p:blipFill>
          <a:blip r:embed="rId4"/>
          <a:stretch/>
        </p:blipFill>
        <p:spPr>
          <a:xfrm rot="20225400">
            <a:off x="838080" y="1952280"/>
            <a:ext cx="31021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341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beefcheddar"/>
          <p:cNvPicPr/>
          <p:nvPr/>
        </p:nvPicPr>
        <p:blipFill>
          <a:blip r:embed="rId2"/>
          <a:stretch/>
        </p:blipFill>
        <p:spPr>
          <a:xfrm rot="1506000">
            <a:off x="4473360" y="2432160"/>
            <a:ext cx="3894120" cy="292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arbys"/>
          <p:cNvPicPr/>
          <p:nvPr/>
        </p:nvPicPr>
        <p:blipFill>
          <a:blip r:embed="rId3"/>
          <a:stretch/>
        </p:blipFill>
        <p:spPr>
          <a:xfrm rot="20505000">
            <a:off x="837720" y="1371240"/>
            <a:ext cx="3286080" cy="4295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by’s Beef &amp; Ched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arbys.wav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56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4.bp.blogspot.com/_Oisgzp6ZgOc/RdZrkFMjOZI/AAAAAAAAAwg/ZFCK6pkueP8/s320/orville+ad.JPG"/>
          <p:cNvPicPr/>
          <p:nvPr/>
        </p:nvPicPr>
        <p:blipFill>
          <a:blip r:embed="rId1"/>
          <a:srcRect l="0" t="20007" r="0" b="0"/>
          <a:stretch/>
        </p:blipFill>
        <p:spPr>
          <a:xfrm>
            <a:off x="1263600" y="7920"/>
            <a:ext cx="6581880" cy="6850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ville Redenbac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 r.wav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3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olcdn.com/channels/0b/03/487e4614-00224-03114-400cb8e1"/>
          <p:cNvPicPr/>
          <p:nvPr/>
        </p:nvPicPr>
        <p:blipFill>
          <a:blip r:embed="rId1"/>
          <a:stretch/>
        </p:blipFill>
        <p:spPr>
          <a:xfrm>
            <a:off x="201924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bu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tarbucks.wav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3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sc002529"/>
          <p:cNvPicPr/>
          <p:nvPr/>
        </p:nvPicPr>
        <p:blipFill>
          <a:blip r:embed="rId1"/>
          <a:stretch/>
        </p:blipFill>
        <p:spPr>
          <a:xfrm>
            <a:off x="1447920" y="873000"/>
            <a:ext cx="6324480" cy="517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ix B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wix.wav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31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leasingnews.org/items/main_snapple_logo.gif"/>
          <p:cNvPicPr/>
          <p:nvPr/>
        </p:nvPicPr>
        <p:blipFill>
          <a:blip r:embed="rId1"/>
          <a:stretch/>
        </p:blipFill>
        <p:spPr>
          <a:xfrm>
            <a:off x="0" y="228600"/>
            <a:ext cx="363996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jldcreative.com/_image_lib/blog/SnappleBottle.jpg"/>
          <p:cNvPicPr/>
          <p:nvPr/>
        </p:nvPicPr>
        <p:blipFill>
          <a:blip r:embed="rId2"/>
          <a:stretch/>
        </p:blipFill>
        <p:spPr>
          <a:xfrm>
            <a:off x="2043000" y="1905120"/>
            <a:ext cx="7101000" cy="4952880"/>
          </a:xfrm>
          <a:prstGeom prst="rect">
            <a:avLst/>
          </a:prstGeom>
          <a:ln w="0">
            <a:noFill/>
          </a:ln>
        </p:spPr>
      </p:pic>
      <p:pic>
        <p:nvPicPr>
          <p:cNvPr id="54" name="snapple.wav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25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s.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AAAAC8bv45oAAAAAAGcONQ"/>
          <p:cNvPicPr/>
          <p:nvPr/>
        </p:nvPicPr>
        <p:blipFill>
          <a:blip r:embed="rId2"/>
          <a:srcRect l="11118" t="0" r="11118" b="0"/>
          <a:stretch/>
        </p:blipFill>
        <p:spPr>
          <a:xfrm>
            <a:off x="2514600" y="1371600"/>
            <a:ext cx="426708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mrs fields.wav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beattips2.com/b2images/egg-mcmuffin-3.jpg"/>
          <p:cNvPicPr/>
          <p:nvPr/>
        </p:nvPicPr>
        <p:blipFill>
          <a:blip r:embed="rId2"/>
          <a:stretch/>
        </p:blipFill>
        <p:spPr>
          <a:xfrm>
            <a:off x="838080" y="228600"/>
            <a:ext cx="7391520" cy="6356520"/>
          </a:xfrm>
          <a:prstGeom prst="rect">
            <a:avLst/>
          </a:prstGeom>
          <a:ln w="0">
            <a:noFill/>
          </a:ln>
        </p:spPr>
      </p:pic>
      <p:pic>
        <p:nvPicPr>
          <p:cNvPr id="59" name="mcmuffin.wav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50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ff00"/>
            </a:gs>
            <a:gs pos="100000">
              <a:srgbClr val="00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mg_110346863307"/>
          <p:cNvPicPr/>
          <p:nvPr/>
        </p:nvPicPr>
        <p:blipFill>
          <a:blip r:embed="rId1"/>
          <a:stretch/>
        </p:blipFill>
        <p:spPr>
          <a:xfrm>
            <a:off x="1752480" y="1066680"/>
            <a:ext cx="5486400" cy="4905360"/>
          </a:xfrm>
          <a:prstGeom prst="rect">
            <a:avLst/>
          </a:prstGeom>
          <a:ln w="0">
            <a:noFill/>
          </a:ln>
        </p:spPr>
      </p:pic>
      <p:pic>
        <p:nvPicPr>
          <p:cNvPr id="61" name="c t lemonade.wav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835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op rocks.wav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AAAADKYKtb0AAAAAAGQprA"/>
          <p:cNvPicPr/>
          <p:nvPr/>
        </p:nvPicPr>
        <p:blipFill>
          <a:blip r:embed="rId3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45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4:23:23Z</dcterms:created>
  <dc:creator>asdfg</dc:creator>
  <dc:description/>
  <dc:language>en-US</dc:language>
  <cp:lastModifiedBy>Richland School District</cp:lastModifiedBy>
  <dcterms:modified xsi:type="dcterms:W3CDTF">2010-05-21T14:20:47Z</dcterms:modified>
  <cp:revision>15</cp:revision>
  <dc:subject/>
  <dc:title>Slide 1</dc:title>
</cp:coreProperties>
</file>